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0729B6-9610-48A4-B706-D48248D574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9CAFA-5B38-4A77-8229-DE1A76E0A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D1B467-FC56-4448-AAAC-10F7334C0F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078EC9-4BBB-4793-9239-1A30E1A453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A3A93-209C-44D9-975D-2A5F44770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6C835-95AA-4105-BE4B-46E39C6E8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2C1D4-AF5B-4683-B3AA-64B1EA300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F75E3-BC65-4D88-8170-FF0733CD2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A8677-03FB-4893-A324-00F4DD2CA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05559-CEED-4AFB-A073-BC8ABE695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7437C-D0A1-42D7-8419-BBCFF1BA9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4F07B-48BB-4B74-8C5A-6D88B31281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1833A-BB57-4D5B-BF36-C2388601ACE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EGE ÜNİVERSİTESİ</a:t>
            </a:r>
            <a:endParaRPr b="0" lang="en-US" sz="60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425592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07:37:05Z</dcterms:created>
  <dc:creator>Microsoft Office User</dc:creator>
  <dc:description/>
  <dc:language>en-US</dc:language>
  <cp:lastModifiedBy>Microsoft Office User</cp:lastModifiedBy>
  <dcterms:modified xsi:type="dcterms:W3CDTF">2018-08-01T13:24:51Z</dcterms:modified>
  <cp:revision>3</cp:revision>
  <dc:subject/>
  <dc:title>PowerPoint Presentation</dc:title>
</cp:coreProperties>
</file>